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487-52B7-43EB-A889-5BD7189D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6FF-49D9-47F3-8FDA-A8FB9C20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2AA-181C-47E9-A5E2-6E7F27D1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406-A4B4-41A0-8056-D6B7DE65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E85-F305-471D-A5CF-3BD9F449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33D-973F-4878-BAA6-88C15A65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997-4213-4110-92D5-713E53A8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956-E688-4603-B8AB-2B4FB8A4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355-C45C-406F-83A5-D399DF4A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B6E-D860-462B-BC4C-56F8B4A5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8D2-450E-45F9-A840-9B918865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1AB-0AFA-4FCD-8EF1-35697EB2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EC14-655B-4EE4-BE59-8FD1A841B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k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y the most comprehensive campaign of the year…but I need to reduce the mark due to all the spamming.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creative…not so realistic.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done!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ely no marks lost here…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hear at times…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3:36:18Z</dcterms:created>
  <dc:creator>nbdoe</dc:creator>
  <dc:description/>
  <dc:language>en-US</dc:language>
  <cp:lastModifiedBy>nbdoe</cp:lastModifiedBy>
  <dcterms:modified xsi:type="dcterms:W3CDTF">2007-05-11T13:36:22Z</dcterms:modified>
  <cp:revision>1</cp:revision>
  <dc:subject/>
  <dc:title>Election 2007</dc:title>
</cp:coreProperties>
</file>